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665-1910-431A-B453-F0394034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6D8-C49D-42A4-A045-66173120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6580-15A3-40C6-A733-BCC1B665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1E0-A5FC-4FD9-802E-507D562C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05B-F18F-48D9-B43B-8950CA36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163-4DA9-4B24-AEEE-1F1B2049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4C9-4E06-42E0-99BD-07D9A2CE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811-A361-47AD-85F2-445D2861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266-02DD-4FAC-AF78-8A4D01B1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3FEB-CB2D-4F34-9C0F-56442AC3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7A2-3DA8-4B56-B2D1-E694875D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66CB-93F3-446F-AC5E-D0057AFF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A5AB-F87C-4DD5-A8B7-E48B74B21F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06:26:18Z</dcterms:created>
  <dc:creator>yaoji</dc:creator>
  <dc:description/>
  <dc:language>en-US</dc:language>
  <cp:lastModifiedBy>yaoji</cp:lastModifiedBy>
  <dcterms:modified xsi:type="dcterms:W3CDTF">2011-06-24T06:27:17Z</dcterms:modified>
  <cp:revision>1</cp:revision>
  <dc:subject/>
  <dc:title>Slide 1</dc:title>
</cp:coreProperties>
</file>